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D5E5-F376-4069-8172-F2041B813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6948-DE3F-4950-BB7C-99A91FCBA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0280-BBDA-4685-83DE-C1C06A605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951A-43A3-4B42-A856-210A7BFA6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8396-8B04-4110-AA3A-27712E810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BB0A-3C87-4B24-9B00-6DAA84579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07FF-1949-43F9-B019-8A769D033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AF97-E3AE-4767-B0B5-4309CA186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E227-0B83-45AA-9616-AED511D2E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425E-7CD7-4563-9A11-A872E7392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A380-EC2D-4F3D-A9C7-200F3BDC0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85F4-999E-4AF3-BF35-104A3F8B7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2E07-500D-4C8E-A1A3-08071176B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7FF2-E468-4D0E-A837-54DCB53FB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E04F-C7F2-4F9E-B0FC-A58DB8C0F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F107-DBB7-48D0-9F10-D220F865F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0178-8190-4591-B202-02E5685F0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26E7-C2F3-4AE1-9704-99BE879D2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8A91-0E9D-4B6F-BABA-0EE5AD3CA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5897-C183-4E94-B035-56B5FE05E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6061-B3D5-4AE4-9AA5-B772EF6B1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53AF-C5EB-4D4A-BE01-EC082784A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1860-E9AF-4843-86B6-EE4D13508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E2E1-CF93-4171-A8BA-D94947E17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3F67-C246-40BD-9919-01C6D82AA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254F-E284-4622-9F3D-9715E3166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1CAC-A417-45DD-9293-3E103685A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5002-479B-49C0-99E6-D730B085D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65C4-0ED1-41F8-ACA8-39F7C54DB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93EC-72EA-4658-B647-70FBB9DF3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38BC-91D5-44A3-BF49-8DBBD5E1E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BECA-C11A-437B-BE28-C968E573E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2E71-A017-4027-914E-9C4CBDABE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65B2-5B51-4715-910F-D775E3C4D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03A8-B600-4CC3-95AE-E6756D77B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F5CB-1B78-4AA5-8F3C-5BA4A0F69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BDB8-D7AC-412D-A9E2-5743ABDB4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D339-4D9D-4375-9334-8B3C745DA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C83B-2E83-4D78-8D50-22F071226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2D97-E58E-43F9-94AB-62A7E780A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EF4B-D128-4F73-ACCA-CF3E8201F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BC3E-47A8-4EB6-B89E-14F800D6E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13C8-4D72-4F79-A0D7-6AC4F2726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86F7-DE32-43DC-95FA-E08E4D99E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FDF5-B72E-444E-8614-76EFFB230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C685-293E-4E37-946D-4E761C837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EBFA-6FAA-444F-80B2-9B296D1C0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1675-F9F6-4DFB-8FCA-F4FD502C4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A389-D50A-46BE-8381-CD7E2AF7E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80EE-5269-4181-B121-94C44E284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BA97-8AA2-4C81-898B-3059CC4F1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7966-BD71-4FC4-8A37-5625AF7DC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09A9-2185-4215-96CD-192F97E37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2B07-3517-442F-B8C6-AB2743705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ADCA-6101-4656-A991-EDA4470F0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3CB6-195F-4523-8BE9-B8D657B68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376E-49F7-4C13-B55C-43236572F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3F01-6717-4852-A723-83AF0BCAD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3468-ACCB-435D-ADB2-56433B2A9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4ED4-E697-4EBA-A283-8BAB098A3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4FDB-1059-40E6-9A53-E6FEB6D11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F8F0-189B-43A4-961C-F25371D3F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BD98-EDF7-4C6D-A034-5A8223044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26AC-67AA-43C1-A8F7-1E073E226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D1B4-CA87-4EFB-88EB-32BCFB623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9E9F-423D-4A12-988F-6BB4099C0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A7B2-5A61-403A-B9D2-D67B23548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4885-D638-4C8B-8B55-647C18F02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62DD-4224-4F55-BE27-02AF3C09F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453E-993D-486D-A2C6-EFB486407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5330-B626-4F2B-A07E-522516AF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2615-2149-4736-A019-C6D516F2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4921-5DF9-4D4E-93B8-8CC71EEFB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C2D6-2D55-4602-8F25-0B665F55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6FC9-941F-4022-8E9B-8E7383D9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347A-C096-4049-B22A-7B57C7AA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32CA-575F-45C5-B0FC-10E8364C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9306-C780-4178-91D1-B9B7B0E7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FFC9-1BAD-44E8-B077-4FFAD7AF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788E-A489-4A05-BB9C-7B7D3A12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DB34-4827-4F07-8F6E-7F6A410E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2152-AF94-4099-8232-9418B65E3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4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4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5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5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5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6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6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6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7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7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7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8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8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8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39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49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59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0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0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0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1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1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1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2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2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3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3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3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3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5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371600" y="19810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ewchild who does not sleep well at n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355760" y="182880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ABRI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Previou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Receiver-in-Trai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1295280" y="106668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OSE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371600" y="23623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itizens are encouraged to be as similar to others as possi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359000" y="169056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wchildren are identified by a number before they are name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1355760" y="16002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Jonas takes Gabriel and Lily with him when he flees the commun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371600" y="1219320"/>
            <a:ext cx="6324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ly Gabriel is taken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1371600" y="2666880"/>
            <a:ext cx="63244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osemary requested release to escape the pain of the memo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363680" y="17524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itizens take a pill each day to make them strong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295280" y="1143000"/>
            <a:ext cx="63248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t is to stop the “stirring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380880" y="609480"/>
            <a:ext cx="807732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felt very angry this afternoon – My childcare group was at the play area, and we had a visiting group of Sevens, and they didn’t obey the rules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at all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O said this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027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LY – CHAPTER 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028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1371600" y="1600200"/>
            <a:ext cx="63244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sh, does anything seem strange to you? About the apple?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O said thi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ONAS – CHAPTER TW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609480" y="762120"/>
            <a:ext cx="792504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ut she had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kipp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him. He saw the others in his group glance at him, embarrassed, and then avert their eyes quickly. He saw a worried look on the face of his group leader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O is being talked about?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is going on he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219320" y="1709640"/>
            <a:ext cx="632448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t is talking about JONAS.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e was skipped at the Assignments Ceremon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APTER SE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2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5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8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4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7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0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3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6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9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2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5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1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4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7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0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3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6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9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2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5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8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1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4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7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0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3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6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9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87" descr="screenj"/>
          <p:cNvPicPr/>
          <p:nvPr/>
        </p:nvPicPr>
        <p:blipFill>
          <a:blip r:embed="rId90"/>
          <a:stretch/>
        </p:blipFill>
        <p:spPr>
          <a:xfrm>
            <a:off x="152280" y="838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2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3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4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5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7" name="Text Box 205"/>
          <p:cNvSpPr/>
          <p:nvPr/>
        </p:nvSpPr>
        <p:spPr>
          <a:xfrm>
            <a:off x="109440" y="118728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harac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06"/>
          <p:cNvSpPr/>
          <p:nvPr/>
        </p:nvSpPr>
        <p:spPr>
          <a:xfrm>
            <a:off x="1600200" y="11430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rue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07"/>
          <p:cNvSpPr/>
          <p:nvPr/>
        </p:nvSpPr>
        <p:spPr>
          <a:xfrm>
            <a:off x="3124080" y="122076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Quo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08"/>
          <p:cNvSpPr/>
          <p:nvPr/>
        </p:nvSpPr>
        <p:spPr>
          <a:xfrm>
            <a:off x="4635360" y="122076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09"/>
          <p:cNvSpPr/>
          <p:nvPr/>
        </p:nvSpPr>
        <p:spPr>
          <a:xfrm>
            <a:off x="6172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hapter Summ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10"/>
          <p:cNvSpPr/>
          <p:nvPr/>
        </p:nvSpPr>
        <p:spPr>
          <a:xfrm>
            <a:off x="7696080" y="122076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is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5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371600" y="1166760"/>
            <a:ext cx="63244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elcome, we must get started. You’re one minute late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O said this and to WHOM did he/she say it t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1382760" y="1676520"/>
            <a:ext cx="63244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GIVER SAID IT TO JON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APTER TWEL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>
            <a:hlinkClick r:id="rId1" action="ppaction://hlinksldjump"/>
          </p:cNvPr>
          <p:cNvSpPr/>
          <p:nvPr/>
        </p:nvSpPr>
        <p:spPr>
          <a:xfrm>
            <a:off x="0" y="-3049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371600" y="1371600"/>
            <a:ext cx="63244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t’s called snow.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nowflakes.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y fall down from the sky and they’re very beautiful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O said this and to WHOM did he/she say it t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762120" y="1536840"/>
            <a:ext cx="75438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ONAS SAID THIS TO GABRI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APTER TWENTY-THR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371600" y="1905120"/>
            <a:ext cx="63244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AGE CUTS THEIR HAIR 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363680" y="26352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T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371600" y="21337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AGE STARTS VOLUNTEER HOU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EIGH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>
            <a:hlinkClick r:id="rId1" action="ppaction://hlinksldjump"/>
          </p:cNvPr>
          <p:cNvSpPr/>
          <p:nvPr/>
        </p:nvSpPr>
        <p:spPr>
          <a:xfrm>
            <a:off x="0" y="-1584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838080" y="2666880"/>
            <a:ext cx="721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AGE I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SSIGN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 JO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ssigned to be the Receiver-in-Trai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TWEL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533520" y="1828800"/>
            <a:ext cx="8076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IS THE AGE WHERE A BICYLCE IS GIVEN TO YOU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N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-7632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685800" y="26668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AGE IS WHEN YOU GET 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FRONT-BUTTO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JACK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SEV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338120" y="1219320"/>
            <a:ext cx="6324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chapter is where Jonas was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kipped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during the Assignme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APTER SE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-38160" y="-324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371600" y="171756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chapter is when Jonas notices the apple chan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APTER TH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1371600" y="106668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is the chapter when Gabriel is named “Uncertain” and held back from being named a 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295280" y="11430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ON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APTER S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1371600" y="144792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is the chapter when we learn about the “Stirrings” and Jonas begins taking his pi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APTER FIV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219320" y="137160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is the chapter when we learn that Rosemary is The Giver’s daugh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APTER TWEN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1314360" y="152280"/>
            <a:ext cx="632484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of the following is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 quality that the Receiver-in-Training must posses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egr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ur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nse of Humor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.   Capacity to See Beyo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. Sense of Hum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595440" y="380880"/>
            <a:ext cx="808020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tead of seeing colors, The Giver first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. heard pounding surf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. saw glimpses of other communities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. heard music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. experience different types of wea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144792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Heard Mus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304920" y="150840"/>
            <a:ext cx="8370720" cy="59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of the following was NOT eliminated when the community went to Sameness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. hill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. col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. different types of foo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. weather patter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371600" y="18288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onas’s younger sis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-34920" y="-4140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1523880" y="267984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. different types of f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1351080" y="765000"/>
            <a:ext cx="632448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Giver’s favorite memory is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. walking on a beac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. a family at Christ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. sledding downhill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. sailing on a la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-6840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547560" y="2241720"/>
            <a:ext cx="769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 a family at Christ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1336680" y="228600"/>
            <a:ext cx="6324480" cy="61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ich of the following i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 rule that Jonas must follow during his train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 may not li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 may not participate in dream-tel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 cannot apply for rele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 cannot discuss your training with any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You may not l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1371600" y="251460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2362320" y="2819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762120" y="1981080"/>
            <a:ext cx="77724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hort Answer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609480" y="1905120"/>
            <a:ext cx="79250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fine Utopia. (One Sentenc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fine Dystopia. (One Sentenc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scribe how they are DIFFERENT. (One Sentenc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1219320" y="771480"/>
            <a:ext cx="716256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ENONTATION –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CTUAL DEFINITION OF WOR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NNOTATION –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TONE OR FEELING THE WORD GI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343160" y="21970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77800" y="1752480"/>
            <a:ext cx="798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lds the community’s memo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343160" y="16002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GI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Shettle, Meghan</cp:lastModifiedBy>
  <cp:lastPrinted>2011-12-19T19:46:47Z</cp:lastPrinted>
  <dcterms:modified xsi:type="dcterms:W3CDTF">2014-12-18T17:17:20Z</dcterms:modified>
  <cp:revision>82</cp:revision>
  <dc:subject/>
  <dc:title>No Slide Title</dc:title>
</cp:coreProperties>
</file>